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ABD3-2872-4374-A20E-E0E45EB8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BDB3-A20B-4D47-8942-953AB01D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D5E1F-71E3-438F-92E7-31825E4A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5C223-1A95-43CD-8E76-7B383D25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D33DA-FBDC-432E-A0B7-615C893A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0DBF2-DEA8-488C-B4C0-375A8851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ADEB5-48E9-4036-A888-45DE7D01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0A324-FB3E-42CA-85AD-80FF7E0C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1C2AD-5302-4152-ADD2-FF51C15C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F594A-3B1A-4110-BB08-31EE380F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61160-87DB-4EA2-950D-D5995561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47547-448F-409E-9E41-3CEBE131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DC5-4319-4625-A73C-7C34EBF1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1EFE5-4B53-4BA1-85D0-3E7763A5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F1596-E3D4-49A1-86F0-30929A05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D6E13-1F77-4DA5-89ED-307747A8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F4C9F-0F92-4377-8339-0C8DDC9B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73383-B7A8-4C77-A70B-FCB39EFC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E46AC-4029-4CD4-923F-93C848D1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5B9A7-1956-46E9-BBAF-BC7B9145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C924F-4001-4149-BF2B-69A12A84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F7988-093F-4DE7-A220-A0248371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8C3ED-2FAD-4538-826D-BF986A8F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E00-0FDA-440B-B280-497D8A6B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5D299-549E-4D89-92EE-841AE64D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1192-3552-43CE-9D1B-DB9B9374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DCB1-FA3C-4D65-8BF7-BF4D25C0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AADF-C24E-4A05-9A4F-E9EB4288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9576-86CE-4C97-8603-8390E045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29C5-C5CB-4FFC-8048-0DCDDFC5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DB4B-8DD7-4404-B32D-08E34C53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8129-1F21-43AA-99CD-1C800CB1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E2E-E17B-40AF-BDE1-148EB112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7162-E605-426D-B46E-5584732C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74E2-6C8A-4862-9EAF-3F40FED5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0FE0-0B62-46E9-A957-5541A77E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63F3-4FE6-44D1-9B82-9614D227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C891-620F-4F17-B037-72F7E416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91C86-44CB-488F-852D-A408264D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578AC-0EAE-46E1-91D3-3872FC98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B18BE-6AC5-49A2-B64E-BBBC671C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131D6-C3B1-4F45-8349-39EDC89A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97C8E-0EB9-4452-900E-5A43329C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8D0-1E86-4E7E-81A5-BE396846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696CE-E6A5-45C1-9247-F0F04120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89628-727D-4366-B2AE-00D33FDF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561B2-4161-4AF2-8B99-C7C50F7E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89E9C-AC2D-423E-B61C-69105FB8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FB765-CCC9-4242-9FF0-83A41F16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D3E48-6703-41AB-AA04-0094AF02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2137E-3BCD-4C9F-8CDC-02C673E0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AA066-FEED-4B99-ABD0-7A0CDD64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64BA4-3C3F-42D0-A45D-999FE892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45427-FEF5-48F2-9874-BFD5DDEC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6FE5-5772-498B-8B15-46547B5E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23EC3-E907-47DB-843F-A5502CB2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5F770-1641-4B9E-BF1E-5582C58D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690B0-2653-48BC-A1AC-C23F1F09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B09C7-A8D2-4BD7-BCB4-D80EA3AF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2BCEC-7682-482F-ACEA-D47FEF29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6C356-C2A3-4DA8-9640-742C9613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B100D-DD9A-4C55-B2F3-FB7BC35B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43F3B-27DF-4A2C-BE4F-8289CB57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2A865-F8DF-4BEC-A6CB-24A5FA7D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87382-5F08-4329-A97A-51B9FE8B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563D-C800-4596-9223-DD493A1D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2B1E0-EE00-4EB9-BCB6-9ECDAFE3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C4DEA-FF2E-4446-84A0-31A38008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06697-6EE4-4671-854C-3425C9FA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A2937-761A-499A-B1AC-F467A97C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3DB5A-249D-4642-B8C7-CA1A6942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63FC9-933B-4708-8955-0E52E7C7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793EE-D5A0-49E9-A183-1B129EF8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59BAF-76DF-4D94-8D86-38D22595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F4C98-4FF7-4BA1-A508-AD9415B1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792AD-E7FF-4B00-9ACF-D76F35D6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BE03-DA98-44E7-A567-3345E29B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E29B5-AD8A-4AD9-A921-D62C1501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AD3C0-A483-48D0-BC3A-C9BB191F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87F11-7E19-4819-8540-7C2A98C3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B810F-0849-4FC7-A848-2A1A47CF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2C833-57BD-4F40-8451-36E3A9F4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2E024-05EF-46E9-9DCD-64363B05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D8F73-2F6B-4A33-AFC6-13E97D2C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F5C25-81B4-4BE6-A138-AFC810DD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67AB6-7BFB-4964-8FF1-AFAA3262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C1186-7CD3-4755-8637-5075B5FB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E14-2C96-493C-8DA7-88704F14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2364E-F111-4579-8FF2-F3EF0325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53457-4FBB-40D1-8072-CF2DCBE7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67135-C3CE-40CA-A210-DEA96F4B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636C9-FCD6-43CB-9571-7DC82BCC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998FF-B407-4CD2-B3EE-DE7624E7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8FA61-48B6-4B07-8735-D9330C34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9FB59-3CAB-4BD9-8E97-0601D7FD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927AE-552A-4E05-855C-06CF0BE1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56AF0-5E9E-4C2C-B7FB-3BF0AFA3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B8CAA-16B8-457F-BB58-8553BD3D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54A1-F276-4465-A25A-0026B4FE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DA34E-D73A-4BC9-8AB3-56B79C3F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073F0-F6C5-4FB6-A990-43D4EF85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ADC9E-3098-4828-BCC9-5DE83036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BE542-761F-4A11-A41C-C1C5B968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A9338-FC24-40C8-9A1F-D3B929F5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19FBE-7E51-4595-B9C2-45F2B763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A4549-0759-450A-B4A7-6593EB55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BE117-B27D-47E0-809A-F348FA60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7DF28-1575-464A-A3CC-88511D7A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82000-9F75-48FB-9622-28C75A7A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531-C9F8-48BB-876D-D0C6841F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A5DE0-9FB3-4B7C-8BF5-6DD6D787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E5879-F5A1-422B-B144-D035325E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DE49D-2B44-4153-AA36-305001CA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FB0C2-9D06-4198-ABF4-4FA30122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92394-8FC2-4B9C-A6D9-2741E76F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C7A85-942B-43F5-9A15-0D8166C1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201F7-6EBB-46EF-B9A0-5E0C6BD2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9DC14-2E87-40D9-B27B-51C5C626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11462-5F76-46CD-815E-B3B78846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40D4A-3842-4D15-B092-96531282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9D27-304C-4E04-A1ED-B4E797E57EA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1728-B336-4E9E-BBB0-CABA5A0EE94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85CC-B060-4CF7-8D6D-C0B93637AA5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9815-8856-401D-A1CB-B43337F6CF7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E4BC-751F-4E62-8EC8-4DF6A0E455C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5FD8-093F-4F16-89E2-FEDA516FA6B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2E42-3C83-498A-B299-DB995B8A710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EED5-4B17-46F6-9EC7-C0928F89500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D688-80FB-4F3C-90DC-C1B3EE1F70B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C674-53CE-472B-9C0E-F5A65BE4729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7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어디에 가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디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를 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말을 공부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슬리퍼리록 대학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사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청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다나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디에 가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시내에 갑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다나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시내에서 무엇을 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친구를 만납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시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ownt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친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만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ere; inte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디에 갑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디에서 일하십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병원이 어디에 있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o ~, at ~; postposition denoting time or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10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시에 학교에 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일요일에도 회사에 갑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내일 미국에 갑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at ~; postposition denoting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교실에서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을 시장에서 샀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여자는 은행에서 일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부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usan (Pusan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병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hospit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우체국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ost offi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학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극장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hea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일하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다방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offee shop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장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청역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he city hall st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은행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식당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하숙집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oarding hou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식사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e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도서관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백화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department sto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과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rui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학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institu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갑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부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 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디에 가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갑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중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병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체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숙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집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사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극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을 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백화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을 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12T14:35:59Z</dcterms:modified>
  <cp:revision>97</cp:revision>
  <dc:subject/>
  <dc:title>KOREAN LANGUAGE</dc:title>
</cp:coreProperties>
</file>